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904C-D530-4800-8510-ABD0699F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1148C-B516-4EA4-A5DB-5423BED6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6CF57-4C11-429B-AFAD-B7CEBA04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8C48-145C-458F-A43C-C28A62A0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E00F-7571-423A-A411-94C1A397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7ED4-24EF-46F9-A980-446117CF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93D3-E1C0-448B-8C01-C75FE79C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2687-2E00-4BD3-9E94-96410C54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8662-E710-4D90-916E-29E33FE1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2AB9-41A5-4113-BD99-EA1638E1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0EF3-9F54-4D5A-98F9-83F62FAE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CEE4A-AA50-40C8-84AF-F677468F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A428-6026-4900-BB65-0A187293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B7FB-58D0-4367-A4CF-C85A48F9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8872-216D-41AB-A5D8-AD23AF8A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BCFD-40CD-4B21-8A9F-FD3D893F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B643-8E19-43A4-9CEA-4C321C31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2373F-C95C-4C77-A0A7-E8642397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26D73-390C-4CDA-92BB-7DC3E9DB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FAFFB-1688-48C4-A2C3-AFAB985D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6C73F-1FF8-48D2-A0E2-CE08F7C3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BD07D-5D20-4763-A8FD-BBE24C59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3D5D-EAB5-46C8-A8C0-4E8286B0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BD4F2-9017-43B9-B8A9-5BE3B014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617E-BC40-4CC6-A290-9858A430C9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3730-23E0-4F51-B75D-5DF58BFF56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key-Cipher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key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a small key length is a weakness of a Vigenere cipher one fix that has been used is called an autokey cip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key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keyword to encipher the first segment of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iphertext (or the plaintext segment which was just enciphered) as the key for the next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1196-A8AE-4312-943B-A7EFBDC4D4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72520" y="321624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autokeycipherprovidesalong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756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77560" y="352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1072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709640" y="3292560"/>
            <a:ext cx="152640" cy="3808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0720" y="352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Courier New"/>
              </a:rPr>
              <a:t>w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4424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Courier New"/>
              </a:rPr>
              <a:t>w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166840" y="3368160"/>
            <a:ext cx="228600" cy="304920"/>
          </a:xfrm>
          <a:prstGeom prst="line">
            <a:avLst/>
          </a:prstGeom>
          <a:ln w="9360">
            <a:solidFill>
              <a:srgbClr val="99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96960" y="549576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 will implement this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B5DA-8119-4715-9394-C978821D13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3T04:10:17Z</dcterms:modified>
  <cp:revision>59</cp:revision>
  <dc:subject/>
  <dc:title>CAP Cryptographic Analysis Program</dc:title>
</cp:coreProperties>
</file>